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966-B69F-4FFF-ACC4-09B582D2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74C-9D46-4B2A-9CF2-B4A0B49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D9D-2426-4DC6-A0C5-F6538703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A27-149C-43F2-8A4E-6C73AEAC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F71-4BA0-4C2E-99F7-AF896F5A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091-4846-495C-ADE2-C5E9BBFE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9DA-ECDC-41F8-ADDC-79B870D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623-E20F-45C5-B963-1BF35E62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B40-968E-4C3E-8768-6C49815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514-5517-4377-890B-D878248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9C5-1061-46C0-87EF-F3FAF8B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9DD-BEF6-4C5E-9544-D756CADD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23B2-27CD-497E-B3CD-2D501B14B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R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your own opinions and those of others to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AQA tex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pages 116 and 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one of the three tasks in the white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3:01:53Z</dcterms:created>
  <dc:creator>sthobbsc</dc:creator>
  <dc:description/>
  <dc:language>en-US</dc:language>
  <cp:lastModifiedBy>sthobbsc</cp:lastModifiedBy>
  <dcterms:modified xsi:type="dcterms:W3CDTF">2006-10-13T13:02:06Z</dcterms:modified>
  <cp:revision>1</cp:revision>
  <dc:subject/>
  <dc:title>What are YOUR opinions</dc:title>
</cp:coreProperties>
</file>